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8.jpeg" ContentType="image/jpeg"/>
  <Override PartName="/ppt/media/image27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0C24-D604-43E9-B63A-12C56E92B8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482A-CC78-4775-9CB9-E6B703F9A2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D758-C0A3-409A-8D87-3707B93B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BA1F-8CF1-407D-BD72-05CF439F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5866-E814-4651-B750-4FC4FBA7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4193-F3F0-4C63-A1B4-E0B2503C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39B2-7800-476A-93CE-081B2EAC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DDAD-6CF9-4C87-B7D0-992061DE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AED9-D439-4E95-A691-5EC0A756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CA91-C688-49FD-BDCB-A8B5C9FF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DE8-C295-41DE-AB36-B34A66E7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C7D7-683A-46F6-8797-D47EA2CA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A142-37F2-4786-B018-120F4B36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5E12-EDA3-4038-A367-1DF96A42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dfbf4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FF1B-D0FE-4E24-8417-A4E50D0158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гатырь- герой русских былин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воин, отличающийся необычной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ой, удалью, мужеством и ум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икова Любовь Дмитри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СОШ №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Светлана\Мои документы\Мои рисунки\Руслан и Людмила\Орнамент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5"/>
          <p:cNvSpPr/>
          <p:nvPr/>
        </p:nvSpPr>
        <p:spPr>
          <a:xfrm>
            <a:off x="2819520" y="3048120"/>
            <a:ext cx="6172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C:\Documents and Settings\Светлана\Мои документы\Мои рисунки\Руслан и Людмила\Орнамент 1.jpg"/>
          <p:cNvPicPr/>
          <p:nvPr/>
        </p:nvPicPr>
        <p:blipFill>
          <a:blip r:embed="rId1"/>
          <a:stretch/>
        </p:blipFill>
        <p:spPr>
          <a:xfrm>
            <a:off x="0" y="0"/>
            <a:ext cx="226836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11280" y="18864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ы думаете, о чём может быть это произведе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999800" y="1142640"/>
            <a:ext cx="6357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подвиге витязя Руслана в сражении с басурман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2268360" y="5445000"/>
            <a:ext cx="68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прочитаем текст, делая остановки, и попытаемся понять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чему именно этот отрывок   из поэмы А.С. Пушкина  взят на ур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pole1"/>
          <p:cNvPicPr/>
          <p:nvPr/>
        </p:nvPicPr>
        <p:blipFill>
          <a:blip r:embed="rId2"/>
          <a:stretch/>
        </p:blipFill>
        <p:spPr>
          <a:xfrm>
            <a:off x="3132000" y="2421000"/>
            <a:ext cx="4950000" cy="2943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2876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вы представляли, слушая стих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такой Руслан?  Как  автор относится к своему геро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робуйте описать Руслана самостоятельно. Работа в па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Documents and Settings\Светлана\Мои документы\Мои рисунки\Руслан и Людмила\Орнамент 1.jpg"/>
          <p:cNvPicPr/>
          <p:nvPr/>
        </p:nvPicPr>
        <p:blipFill>
          <a:blip r:embed="rId1"/>
          <a:stretch/>
        </p:blipFill>
        <p:spPr>
          <a:xfrm>
            <a:off x="0" y="4365720"/>
            <a:ext cx="9144000" cy="2492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57880" y="1428840"/>
            <a:ext cx="3571920" cy="271440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естн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ужест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ямодуш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ерность в любви и сл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Руслан 3"/>
          <p:cNvPicPr/>
          <p:nvPr/>
        </p:nvPicPr>
        <p:blipFill>
          <a:blip r:embed="rId1"/>
          <a:srcRect l="11811" t="738" r="1772" b="0"/>
          <a:stretch/>
        </p:blipFill>
        <p:spPr>
          <a:xfrm>
            <a:off x="0" y="2000160"/>
            <a:ext cx="5286240" cy="485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ы ребя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528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ы думаете, чем закончилось сражение? Победой киевл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сыграл самую главную роль в этой победе? Витязь Русл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Светлана\Мои документы\Мои рисунки\Руслан и Людмила\Орнамент 1.jpg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1254129160-19"/>
          <p:cNvPicPr/>
          <p:nvPr/>
        </p:nvPicPr>
        <p:blipFill>
          <a:blip r:embed="rId2"/>
          <a:stretch/>
        </p:blipFill>
        <p:spPr>
          <a:xfrm>
            <a:off x="5429160" y="0"/>
            <a:ext cx="2835360" cy="2852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slav_vs_hazarin"/>
          <p:cNvPicPr/>
          <p:nvPr/>
        </p:nvPicPr>
        <p:blipFill>
          <a:blip r:embed="rId3"/>
          <a:stretch/>
        </p:blipFill>
        <p:spPr>
          <a:xfrm>
            <a:off x="857160" y="0"/>
            <a:ext cx="291492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4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4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4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4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ение отрывка с комментирован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447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ая часть. «Дремало поле боев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ение первых 2х строчек: Определите, когда будут происходить события?(Утро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3-4 строчек: Как вы понимаете 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здейственном пок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(Ничего не происходило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5-7 строчек: Найдите в отрывке слова, которыми  автор рисует пробуждение боевого поля? (Воспрянул. Внезапный.) Подберите синонимы. Ожил, быстро поднялся. Неожида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C:\Documents and Settings\Светлана\Мои документы\Мои рисунки\Руслан и Людмила\Орнамент 1.jpg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533520" y="6094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часть. «Внезапный крик сражений гряну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8-9 строчки:  Почему  киевляне  растерялись?(Услышали внезапный крик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же случится дальше? Чтение до кон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ую картину вы представили себе? Бой, сражение, киевляне в испуге и вдруг – «Блистая в латах, как в огне, чудесный воин на коне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часть .«Наш витязь пал на басурман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ы думаете, что такое латы ? (Металлические доспехи для защиты воина от ударов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Documents and Settings\Светлана\Мои документы\Мои рисунки\Руслан и Людмила\Орнамент 1.jpg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Овал 3"/>
          <p:cNvSpPr/>
          <p:nvPr/>
        </p:nvSpPr>
        <p:spPr>
          <a:xfrm>
            <a:off x="4724280" y="1981080"/>
            <a:ext cx="1905120" cy="18288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6"/>
          <p:cNvSpPr/>
          <p:nvPr/>
        </p:nvSpPr>
        <p:spPr>
          <a:xfrm>
            <a:off x="6705720" y="4343400"/>
            <a:ext cx="2286000" cy="1295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ннаш вит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9"/>
          <p:cNvSpPr/>
          <p:nvPr/>
        </p:nvSpPr>
        <p:spPr>
          <a:xfrm>
            <a:off x="4724280" y="4952880"/>
            <a:ext cx="1981440" cy="1371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десный во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10"/>
          <p:cNvSpPr/>
          <p:nvPr/>
        </p:nvSpPr>
        <p:spPr>
          <a:xfrm>
            <a:off x="2514600" y="4343400"/>
            <a:ext cx="2209680" cy="990720"/>
          </a:xfrm>
          <a:prstGeom prst="ellipse">
            <a:avLst/>
          </a:prstGeom>
          <a:solidFill>
            <a:srgbClr val="9c9cd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жий г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76964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автор называет Русла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430080" y="121932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как Пушкин описал появление Руслана?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ми эпитеты он подобра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C:\Documents and Settings\Светлана\Мои документы\Мои рисунки\Руслан и Людмила\Орнамент 1.jpg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Line 9"/>
          <p:cNvSpPr/>
          <p:nvPr/>
        </p:nvSpPr>
        <p:spPr>
          <a:xfrm>
            <a:off x="6400800" y="3429000"/>
            <a:ext cx="10666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 flipH="1">
            <a:off x="3733560" y="34290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5638680" y="38098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в 3 фрагменте с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истая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тах, как в ог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жий гром , наш витяз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умайте, зачем автор использует сравн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stihi_pushkina"/>
          <p:cNvPicPr/>
          <p:nvPr/>
        </p:nvPicPr>
        <p:blipFill>
          <a:blip r:embed="rId1"/>
          <a:stretch/>
        </p:blipFill>
        <p:spPr>
          <a:xfrm>
            <a:off x="304920" y="2971800"/>
            <a:ext cx="2844720" cy="3429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1254129160-20"/>
          <p:cNvPicPr/>
          <p:nvPr/>
        </p:nvPicPr>
        <p:blipFill>
          <a:blip r:embed="rId2"/>
          <a:stretch/>
        </p:blipFill>
        <p:spPr>
          <a:xfrm>
            <a:off x="6037200" y="2590920"/>
            <a:ext cx="31068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вы понимаете строчк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437920" y="1371600"/>
            <a:ext cx="6705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ш витязь пал на басурм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обрушил свой меч на головы врагов неожиданно и стреми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 заметили  как меняется темп, интонация от части к ча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  ускоряется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Поединок Пересвета с Темир-Мурзой. Илья Глазунов"/>
          <p:cNvPicPr/>
          <p:nvPr/>
        </p:nvPicPr>
        <p:blipFill>
          <a:blip r:embed="rId1"/>
          <a:stretch/>
        </p:blipFill>
        <p:spPr>
          <a:xfrm>
            <a:off x="3657600" y="3962520"/>
            <a:ext cx="3733920" cy="2689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Documents and Settings\Светлана\Мои документы\Мои рисунки\Руслан и Людмила\Орнамент 1.jpg"/>
          <p:cNvPicPr/>
          <p:nvPr/>
        </p:nvPicPr>
        <p:blipFill>
          <a:blip r:embed="rId2"/>
          <a:stretch/>
        </p:blipFill>
        <p:spPr>
          <a:xfrm>
            <a:off x="0" y="0"/>
            <a:ext cx="22096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3"/>
          <p:cNvSpPr/>
          <p:nvPr/>
        </p:nvSpPr>
        <p:spPr>
          <a:xfrm>
            <a:off x="0" y="0"/>
            <a:ext cx="5029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йте вывод о том, кого считали богатырями на Рус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есных воинов, сильных, храбрых, одерживающих поб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ите, как вы думаете чем они занимали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яли родные рубежи от нападения вра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момент описан в отрывке из поэмы «Руслан и Людмила»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то же сам Руслан?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C:\Documents and Settings\Светлана\Мои документы\Мои рисунки\Руслан и Людмила\Орнамент 1.jpg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4929120" y="0"/>
            <a:ext cx="4203720" cy="278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богатырь"/>
          <p:cNvPicPr/>
          <p:nvPr/>
        </p:nvPicPr>
        <p:blipFill>
          <a:blip r:embed="rId3"/>
          <a:stretch/>
        </p:blipFill>
        <p:spPr>
          <a:xfrm rot="19079400">
            <a:off x="4103280" y="2804760"/>
            <a:ext cx="4503960" cy="2679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0"/>
          <p:cNvSpPr/>
          <p:nvPr/>
        </p:nvSpPr>
        <p:spPr>
          <a:xfrm>
            <a:off x="2500200" y="1643040"/>
            <a:ext cx="6232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--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мелый, мужестве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Защищает, обороняет, сраж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Защитник. Спаситель. Во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итяз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Documents and Settings\Светлана\Мои документы\Мои рисунки\Руслан и Людмила\Орнамент 1.jpg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2628360" y="692280"/>
            <a:ext cx="60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первое слово синквей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bogatyr"/>
          <p:cNvPicPr/>
          <p:nvPr/>
        </p:nvPicPr>
        <p:blipFill>
          <a:blip r:embed="rId2"/>
          <a:stretch/>
        </p:blipFill>
        <p:spPr>
          <a:xfrm>
            <a:off x="6647040" y="3357720"/>
            <a:ext cx="2496960" cy="3500280"/>
          </a:xfrm>
          <a:prstGeom prst="rect">
            <a:avLst/>
          </a:prstGeom>
          <a:ln w="0">
            <a:noFill/>
          </a:ln>
        </p:spPr>
      </p:pic>
      <p:pic>
        <p:nvPicPr>
          <p:cNvPr id="55" name="m20.wav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2286000" y="685800"/>
            <a:ext cx="701028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синквейн - свое понимание слова  «богатыр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получилось  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Богаты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рабрый, силь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беждает, сражается, бьё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Чудесный воин на ко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Витяз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Савицкая Алина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C:\Documents and Settings\Светлана\Мои документы\Мои рисунки\Руслан и Людмила\Орнамент 1.jpg"/>
          <p:cNvPicPr/>
          <p:nvPr/>
        </p:nvPicPr>
        <p:blipFill>
          <a:blip r:embed="rId1"/>
          <a:stretch/>
        </p:blipFill>
        <p:spPr>
          <a:xfrm>
            <a:off x="142920" y="0"/>
            <a:ext cx="2286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ilya_muromets"/>
          <p:cNvPicPr/>
          <p:nvPr/>
        </p:nvPicPr>
        <p:blipFill>
          <a:blip r:embed="rId2"/>
          <a:stretch/>
        </p:blipFill>
        <p:spPr>
          <a:xfrm>
            <a:off x="4859280" y="3247920"/>
            <a:ext cx="4284720" cy="3610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2195640" y="0"/>
            <a:ext cx="694836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ть пять предложений на тему: « Кого в наше время можно назвать «богатырём»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рывки из работ учащих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… Мне очень бы хотелось, чтобы и в наши дни были  такие герои-воины, на которых всегда можно было положиться.»(Ткаченко Настя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…Когда я вырасту, то стану военным, потому что, я считаю, что богатырями в наше время можно назвать только военнослужащих».( Вавилов Дании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…А я считаю богатырями всех мужчин, у которых есть чувство долга перед Родиной, детьми, родителями».(Балуян Лео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C:\Documents and Settings\Светлана\Мои документы\Мои рисунки\Руслан и Людмила\Орнамент 1.jpg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artlib_gallery-19880-b"/>
          <p:cNvPicPr/>
          <p:nvPr/>
        </p:nvPicPr>
        <p:blipFill>
          <a:blip r:embed="rId2"/>
          <a:stretch/>
        </p:blipFill>
        <p:spPr>
          <a:xfrm>
            <a:off x="2700360" y="4365720"/>
            <a:ext cx="3816360" cy="24922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43200" y="5335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годня мы поговорим  о богатырях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такие богатыри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кие времена они жили 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есть ли они сейчас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1234929194_bogatyri"/>
          <p:cNvPicPr/>
          <p:nvPr/>
        </p:nvPicPr>
        <p:blipFill>
          <a:blip r:embed="rId1"/>
          <a:stretch/>
        </p:blipFill>
        <p:spPr>
          <a:xfrm>
            <a:off x="3357720" y="1785960"/>
            <a:ext cx="4883040" cy="4883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Documents and Settings\Светлана\Мои документы\Мои рисунки\Руслан и Людмила\Орнамент 1.jpg"/>
          <p:cNvPicPr/>
          <p:nvPr/>
        </p:nvPicPr>
        <p:blipFill>
          <a:blip r:embed="rId2"/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2895480" y="500040"/>
            <a:ext cx="624852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ырь- герой русских былин, воин, отличающийся необычной силой, удалью, мужеством и умом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Organization Chart 3"/>
          <p:cNvGrpSpPr/>
          <p:nvPr/>
        </p:nvGrpSpPr>
        <p:grpSpPr>
          <a:xfrm>
            <a:off x="2714760" y="2819520"/>
            <a:ext cx="6095520" cy="4037400"/>
            <a:chOff x="2714760" y="2819520"/>
            <a:chExt cx="6095520" cy="4037400"/>
          </a:xfrm>
        </p:grpSpPr>
        <p:cxnSp>
          <p:nvCxnSpPr>
            <p:cNvPr id="61" name="_s1028"/>
            <p:cNvCxnSpPr>
              <a:stCxn id="62" idx="0"/>
              <a:endCxn id="63" idx="2"/>
            </p:cNvCxnSpPr>
            <p:nvPr/>
          </p:nvCxnSpPr>
          <p:spPr>
            <a:xfrm flipV="1" rot="16200000">
              <a:off x="6544440" y="3651840"/>
              <a:ext cx="808200" cy="2371680"/>
            </a:xfrm>
            <a:prstGeom prst="bentConnector3">
              <a:avLst>
                <a:gd name="adj1" fmla="val 141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29"/>
            <p:cNvCxnSpPr>
              <a:stCxn id="65" idx="0"/>
              <a:endCxn id="63" idx="2"/>
            </p:cNvCxnSpPr>
            <p:nvPr/>
          </p:nvCxnSpPr>
          <p:spPr>
            <a:xfrm flipV="1" rot="16200000">
              <a:off x="5754600" y="4441680"/>
              <a:ext cx="808200" cy="792000"/>
            </a:xfrm>
            <a:prstGeom prst="bentConnector3">
              <a:avLst>
                <a:gd name="adj1" fmla="val 141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30"/>
            <p:cNvCxnSpPr>
              <a:stCxn id="67" idx="0"/>
              <a:endCxn id="63" idx="2"/>
            </p:cNvCxnSpPr>
            <p:nvPr/>
          </p:nvCxnSpPr>
          <p:spPr>
            <a:xfrm flipH="1" flipV="1" rot="5400000">
              <a:off x="4964040" y="4442400"/>
              <a:ext cx="808200" cy="791280"/>
            </a:xfrm>
            <a:prstGeom prst="bentConnector3">
              <a:avLst>
                <a:gd name="adj1" fmla="val 141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031"/>
            <p:cNvCxnSpPr>
              <a:stCxn id="69" idx="0"/>
              <a:endCxn id="63" idx="2"/>
            </p:cNvCxnSpPr>
            <p:nvPr/>
          </p:nvCxnSpPr>
          <p:spPr>
            <a:xfrm flipH="1" flipV="1" rot="5400000">
              <a:off x="4173480" y="3651840"/>
              <a:ext cx="808200" cy="2372040"/>
            </a:xfrm>
            <a:prstGeom prst="bentConnector3">
              <a:avLst>
                <a:gd name="adj1" fmla="val 141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" name="_s1032"/>
            <p:cNvSpPr/>
            <p:nvPr/>
          </p:nvSpPr>
          <p:spPr>
            <a:xfrm>
              <a:off x="5084280" y="2819520"/>
              <a:ext cx="1354680" cy="1614960"/>
            </a:xfrm>
            <a:custGeom>
              <a:avLst/>
              <a:gdLst>
                <a:gd name="textAreaLeft" fmla="*/ 65880 w 1354680"/>
                <a:gd name="textAreaRight" fmla="*/ 1288800 w 1354680"/>
                <a:gd name="textAreaTop" fmla="*/ 65880 h 1614960"/>
                <a:gd name="textAreaBottom" fmla="*/ 1549080 h 1614960"/>
              </a:gdLst>
              <a:ahLst/>
              <a:rect l="textAreaLeft" t="textAreaTop" r="textAreaRight" b="textAreaBottom"/>
              <a:pathLst>
                <a:path w="21600" h="25749">
                  <a:moveTo>
                    <a:pt x="3600" y="0"/>
                  </a:moveTo>
                  <a:arcTo wR="3600" hR="3600" stAng="16200000" swAng="-5400000"/>
                  <a:lnTo>
                    <a:pt x="0" y="22149"/>
                  </a:lnTo>
                  <a:arcTo wR="3600" hR="3600" stAng="10800000" swAng="-5400000"/>
                  <a:lnTo>
                    <a:pt x="18000" y="257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Богатырь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3"/>
            <p:cNvSpPr/>
            <p:nvPr/>
          </p:nvSpPr>
          <p:spPr>
            <a:xfrm>
              <a:off x="2714760" y="5241960"/>
              <a:ext cx="1354680" cy="1614960"/>
            </a:xfrm>
            <a:custGeom>
              <a:avLst/>
              <a:gdLst>
                <a:gd name="textAreaLeft" fmla="*/ 65880 w 1354680"/>
                <a:gd name="textAreaRight" fmla="*/ 1288800 w 1354680"/>
                <a:gd name="textAreaTop" fmla="*/ 65880 h 1614960"/>
                <a:gd name="textAreaBottom" fmla="*/ 1549080 h 1614960"/>
              </a:gdLst>
              <a:ahLst/>
              <a:rect l="textAreaLeft" t="textAreaTop" r="textAreaRight" b="textAreaBottom"/>
              <a:pathLst>
                <a:path w="21600" h="25749">
                  <a:moveTo>
                    <a:pt x="3600" y="0"/>
                  </a:moveTo>
                  <a:arcTo wR="3600" hR="3600" stAng="16200000" swAng="-5400000"/>
                  <a:lnTo>
                    <a:pt x="0" y="22149"/>
                  </a:lnTo>
                  <a:arcTo wR="3600" hR="3600" stAng="10800000" swAng="-5400000"/>
                  <a:lnTo>
                    <a:pt x="18000" y="257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Сильны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4"/>
            <p:cNvSpPr/>
            <p:nvPr/>
          </p:nvSpPr>
          <p:spPr>
            <a:xfrm>
              <a:off x="4295520" y="5241960"/>
              <a:ext cx="1354680" cy="1614960"/>
            </a:xfrm>
            <a:custGeom>
              <a:avLst/>
              <a:gdLst>
                <a:gd name="textAreaLeft" fmla="*/ 65880 w 1354680"/>
                <a:gd name="textAreaRight" fmla="*/ 1288800 w 1354680"/>
                <a:gd name="textAreaTop" fmla="*/ 65880 h 1614960"/>
                <a:gd name="textAreaBottom" fmla="*/ 1549080 h 1614960"/>
              </a:gdLst>
              <a:ahLst/>
              <a:rect l="textAreaLeft" t="textAreaTop" r="textAreaRight" b="textAreaBottom"/>
              <a:pathLst>
                <a:path w="21600" h="25749">
                  <a:moveTo>
                    <a:pt x="3600" y="0"/>
                  </a:moveTo>
                  <a:arcTo wR="3600" hR="3600" stAng="16200000" swAng="-5400000"/>
                  <a:lnTo>
                    <a:pt x="0" y="22149"/>
                  </a:lnTo>
                  <a:arcTo wR="3600" hR="3600" stAng="10800000" swAng="-5400000"/>
                  <a:lnTo>
                    <a:pt x="18000" y="257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Удало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5"/>
            <p:cNvSpPr/>
            <p:nvPr/>
          </p:nvSpPr>
          <p:spPr>
            <a:xfrm>
              <a:off x="5876280" y="5241960"/>
              <a:ext cx="1354680" cy="1614960"/>
            </a:xfrm>
            <a:custGeom>
              <a:avLst/>
              <a:gdLst>
                <a:gd name="textAreaLeft" fmla="*/ 65880 w 1354680"/>
                <a:gd name="textAreaRight" fmla="*/ 1288800 w 1354680"/>
                <a:gd name="textAreaTop" fmla="*/ 65880 h 1614960"/>
                <a:gd name="textAreaBottom" fmla="*/ 1549080 h 1614960"/>
              </a:gdLst>
              <a:ahLst/>
              <a:rect l="textAreaLeft" t="textAreaTop" r="textAreaRight" b="textAreaBottom"/>
              <a:pathLst>
                <a:path w="21600" h="25749">
                  <a:moveTo>
                    <a:pt x="3600" y="0"/>
                  </a:moveTo>
                  <a:arcTo wR="3600" hR="3600" stAng="16200000" swAng="-5400000"/>
                  <a:lnTo>
                    <a:pt x="0" y="22149"/>
                  </a:lnTo>
                  <a:arcTo wR="3600" hR="3600" stAng="10800000" swAng="-5400000"/>
                  <a:lnTo>
                    <a:pt x="18000" y="257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Умны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6"/>
            <p:cNvSpPr/>
            <p:nvPr/>
          </p:nvSpPr>
          <p:spPr>
            <a:xfrm>
              <a:off x="7457040" y="5241960"/>
              <a:ext cx="1353240" cy="1614960"/>
            </a:xfrm>
            <a:custGeom>
              <a:avLst/>
              <a:gdLst>
                <a:gd name="textAreaLeft" fmla="*/ 65880 w 1353240"/>
                <a:gd name="textAreaRight" fmla="*/ 1287360 w 1353240"/>
                <a:gd name="textAreaTop" fmla="*/ 65880 h 1614960"/>
                <a:gd name="textAreaBottom" fmla="*/ 1549080 h 1614960"/>
              </a:gdLst>
              <a:ahLst/>
              <a:rect l="textAreaLeft" t="textAreaTop" r="textAreaRight" b="textAreaBottom"/>
              <a:pathLst>
                <a:path w="21600" h="25776">
                  <a:moveTo>
                    <a:pt x="3600" y="0"/>
                  </a:moveTo>
                  <a:arcTo wR="3600" hR="3600" stAng="16200000" swAng="-5400000"/>
                  <a:lnTo>
                    <a:pt x="0" y="22176"/>
                  </a:lnTo>
                  <a:arcTo wR="3600" hR="3600" stAng="10800000" swAng="-5400000"/>
                  <a:lnTo>
                    <a:pt x="18000" y="25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Мужест</a:t>
              </a:r>
              <a:br>
                <a:rPr sz="2300"/>
              </a:b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енны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Picture 2" descr="C:\Documents and Settings\Светлана\Мои документы\Мои рисунки\Руслан и Людмила\Орнамент 1.jpg"/>
          <p:cNvPicPr/>
          <p:nvPr/>
        </p:nvPicPr>
        <p:blipFill>
          <a:blip r:embed="rId1"/>
          <a:stretch/>
        </p:blipFill>
        <p:spPr>
          <a:xfrm>
            <a:off x="0" y="0"/>
            <a:ext cx="212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Documents and Settings\Светлана\Мои документы\Мои рисунки\Русский воин-удалец.jpg"/>
          <p:cNvPicPr/>
          <p:nvPr/>
        </p:nvPicPr>
        <p:blipFill>
          <a:blip r:embed="rId2"/>
          <a:stretch/>
        </p:blipFill>
        <p:spPr>
          <a:xfrm>
            <a:off x="6621480" y="990720"/>
            <a:ext cx="2522520" cy="3504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image4"/>
          <p:cNvPicPr/>
          <p:nvPr/>
        </p:nvPicPr>
        <p:blipFill>
          <a:blip r:embed="rId3"/>
          <a:stretch/>
        </p:blipFill>
        <p:spPr>
          <a:xfrm>
            <a:off x="2209680" y="1219320"/>
            <a:ext cx="2109960" cy="3733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йчас это слово употребляется в переносном значении: человек большого роста и крепкого телосложения, сильный, смел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429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сейчас понимается это слов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C:\Documents and Settings\Светлана\Мои документы\Мои рисунки\Руслан и Людмила\Великан и карлик.jpg"/>
          <p:cNvPicPr/>
          <p:nvPr/>
        </p:nvPicPr>
        <p:blipFill>
          <a:blip r:embed="rId1"/>
          <a:stretch/>
        </p:blipFill>
        <p:spPr>
          <a:xfrm rot="20895600">
            <a:off x="395280" y="2707920"/>
            <a:ext cx="2600280" cy="3657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Фарлаф трус"/>
          <p:cNvPicPr/>
          <p:nvPr/>
        </p:nvPicPr>
        <p:blipFill>
          <a:blip r:embed="rId2"/>
          <a:srcRect l="25718" t="871" r="2010" b="0"/>
          <a:stretch/>
        </p:blipFill>
        <p:spPr>
          <a:xfrm rot="1022400">
            <a:off x="6002280" y="3178080"/>
            <a:ext cx="2770200" cy="330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Picture 2" descr="C:\Documents and Settings\Светлана\Мои документы\Мои рисунки\Руслан и Людмила\Орнамент 1.jpg"/>
          <p:cNvPicPr/>
          <p:nvPr/>
        </p:nvPicPr>
        <p:blipFill>
          <a:blip r:embed="rId3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i?id=81187630&amp;tov=7"/>
          <p:cNvPicPr/>
          <p:nvPr/>
        </p:nvPicPr>
        <p:blipFill>
          <a:blip r:embed="rId4"/>
          <a:stretch/>
        </p:blipFill>
        <p:spPr>
          <a:xfrm>
            <a:off x="3564000" y="2997360"/>
            <a:ext cx="1863720" cy="2490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 занимались богатыри? Охраняли русскую земл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image_b"/>
          <p:cNvPicPr/>
          <p:nvPr/>
        </p:nvPicPr>
        <p:blipFill>
          <a:blip r:embed="rId1"/>
          <a:stretch/>
        </p:blipFill>
        <p:spPr>
          <a:xfrm>
            <a:off x="1523880" y="1716120"/>
            <a:ext cx="6096240" cy="4295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одеты они, на чём и с чем шли на битв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пехи( латы, кольчуга, меч, боевые кони, одежда…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ва же будет тогда цель урока, на ваш взгляд? (Определить,  кто такие богатыр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ogatyr"/>
          <p:cNvPicPr/>
          <p:nvPr/>
        </p:nvPicPr>
        <p:blipFill>
          <a:blip r:embed="rId1"/>
          <a:stretch/>
        </p:blipFill>
        <p:spPr>
          <a:xfrm>
            <a:off x="7105680" y="4000680"/>
            <a:ext cx="2038320" cy="2857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voin"/>
          <p:cNvPicPr/>
          <p:nvPr/>
        </p:nvPicPr>
        <p:blipFill>
          <a:blip r:embed="rId2"/>
          <a:stretch/>
        </p:blipFill>
        <p:spPr>
          <a:xfrm>
            <a:off x="0" y="0"/>
            <a:ext cx="1514520" cy="20289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х русских богатырей вы знаете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Organization Chart 3"/>
          <p:cNvGrpSpPr/>
          <p:nvPr/>
        </p:nvGrpSpPr>
        <p:grpSpPr>
          <a:xfrm>
            <a:off x="500040" y="1428840"/>
            <a:ext cx="8229240" cy="4524480"/>
            <a:chOff x="500040" y="1428840"/>
            <a:chExt cx="8229240" cy="4524480"/>
          </a:xfrm>
        </p:grpSpPr>
        <p:cxnSp>
          <p:nvCxnSpPr>
            <p:cNvPr id="87" name="_s2052"/>
            <p:cNvCxnSpPr>
              <a:stCxn id="88" idx="0"/>
              <a:endCxn id="89" idx="3"/>
            </p:cNvCxnSpPr>
            <p:nvPr/>
          </p:nvCxnSpPr>
          <p:spPr>
            <a:xfrm flipV="1" rot="16200000">
              <a:off x="5855400" y="1916280"/>
              <a:ext cx="905400" cy="35481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90" name="_s2053"/>
            <p:cNvCxnSpPr>
              <a:stCxn id="91" idx="0"/>
              <a:endCxn id="89" idx="3"/>
            </p:cNvCxnSpPr>
            <p:nvPr/>
          </p:nvCxnSpPr>
          <p:spPr>
            <a:xfrm flipV="1" rot="16200000">
              <a:off x="5008680" y="2763000"/>
              <a:ext cx="905400" cy="185508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92" name="_s2054"/>
            <p:cNvCxnSpPr>
              <a:stCxn id="93" idx="0"/>
              <a:endCxn id="89" idx="3"/>
            </p:cNvCxnSpPr>
            <p:nvPr/>
          </p:nvCxnSpPr>
          <p:spPr>
            <a:xfrm flipV="1" rot="16200000">
              <a:off x="4161240" y="3610440"/>
              <a:ext cx="905400" cy="16020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94" name="_s2055"/>
            <p:cNvCxnSpPr>
              <a:stCxn id="95" idx="0"/>
              <a:endCxn id="89" idx="3"/>
            </p:cNvCxnSpPr>
            <p:nvPr/>
          </p:nvCxnSpPr>
          <p:spPr>
            <a:xfrm flipH="1" flipV="1" rot="5400000">
              <a:off x="3314160" y="2922840"/>
              <a:ext cx="905400" cy="153540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96" name="_s2056"/>
            <p:cNvCxnSpPr>
              <a:stCxn id="97" idx="0"/>
              <a:endCxn id="89" idx="3"/>
            </p:cNvCxnSpPr>
            <p:nvPr/>
          </p:nvCxnSpPr>
          <p:spPr>
            <a:xfrm flipH="1" flipV="1" rot="5400000">
              <a:off x="2467080" y="2075760"/>
              <a:ext cx="905400" cy="32299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89" name="_s2057"/>
            <p:cNvSpPr/>
            <p:nvPr/>
          </p:nvSpPr>
          <p:spPr>
            <a:xfrm>
              <a:off x="3887640" y="1428840"/>
              <a:ext cx="145224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огатыр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058"/>
            <p:cNvSpPr/>
            <p:nvPr/>
          </p:nvSpPr>
          <p:spPr>
            <a:xfrm>
              <a:off x="500040" y="4143600"/>
              <a:ext cx="145224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обрыня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Никити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59"/>
            <p:cNvSpPr/>
            <p:nvPr/>
          </p:nvSpPr>
          <p:spPr>
            <a:xfrm>
              <a:off x="2194560" y="4143600"/>
              <a:ext cx="145224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Илья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уроме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60"/>
            <p:cNvSpPr/>
            <p:nvPr/>
          </p:nvSpPr>
          <p:spPr>
            <a:xfrm>
              <a:off x="3889080" y="4143600"/>
              <a:ext cx="145224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Алёша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опови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2061"/>
            <p:cNvSpPr/>
            <p:nvPr/>
          </p:nvSpPr>
          <p:spPr>
            <a:xfrm>
              <a:off x="5583600" y="4143600"/>
              <a:ext cx="145224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вятог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62"/>
            <p:cNvSpPr/>
            <p:nvPr/>
          </p:nvSpPr>
          <p:spPr>
            <a:xfrm>
              <a:off x="7278480" y="4143600"/>
              <a:ext cx="145080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икула 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елянинови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годня мы познакомимся с  отрывком из поэмы А.С. Пушкина «Руслан и Людмил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C:\Documents and Settings\Светлана\Мои документы\Мои рисунки\Руслан и Людмила\Руслан и Голова 1.jpg"/>
          <p:cNvPicPr/>
          <p:nvPr/>
        </p:nvPicPr>
        <p:blipFill>
          <a:blip r:embed="rId1"/>
          <a:stretch/>
        </p:blipFill>
        <p:spPr>
          <a:xfrm>
            <a:off x="5286240" y="1955880"/>
            <a:ext cx="3440160" cy="4235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pushkin2"/>
          <p:cNvPicPr/>
          <p:nvPr/>
        </p:nvPicPr>
        <p:blipFill>
          <a:blip r:embed="rId2"/>
          <a:stretch/>
        </p:blipFill>
        <p:spPr>
          <a:xfrm>
            <a:off x="324000" y="1989000"/>
            <a:ext cx="3546360" cy="4246560"/>
          </a:xfrm>
          <a:prstGeom prst="rect">
            <a:avLst/>
          </a:prstGeom>
          <a:ln w="0">
            <a:noFill/>
          </a:ln>
        </p:spPr>
      </p:pic>
      <p:pic>
        <p:nvPicPr>
          <p:cNvPr id="101" name="music.mi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7:32:03Z</dcterms:created>
  <dc:creator>Flextron</dc:creator>
  <dc:description/>
  <dc:language>en-US</dc:language>
  <cp:lastModifiedBy>FoM</cp:lastModifiedBy>
  <dcterms:modified xsi:type="dcterms:W3CDTF">2011-12-09T16:23:16Z</dcterms:modified>
  <cp:revision>18</cp:revision>
  <dc:subject/>
  <dc:title>Слайд 1</dc:title>
</cp:coreProperties>
</file>